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00F-B56D-4151-8921-04517150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686-045C-4688-8464-A6736EBB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961-95AC-4B6A-8919-07A41ACD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E25-9A7F-4AC0-8B34-29F300F9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ED3-FDD1-4B48-8BFB-8012953C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856-6A4E-4BC6-BEAE-3876C3D5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C10-1B65-44A4-837B-B534A8B5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E3E-59FB-41B3-8E00-4449BB21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A05-E5C2-4DD6-8E51-4977FC99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9FE-EE6F-4ED7-A21C-8727044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9C3-C0FF-4FE1-954B-E52512E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988-25F2-4838-B968-ADA904B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933E-ABB7-4414-9C88-227256A0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960" y="62064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Cuántos años tien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2276640"/>
            <a:ext cx="93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Cómo te llam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25960" y="148428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How old ar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0800" y="3573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What’s you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040" y="4221000"/>
            <a:ext cx="924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Dónde viv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92680" y="5300640"/>
            <a:ext cx="42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Where do you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7960" y="62064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Qué te gust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276640"/>
            <a:ext cx="93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Te gusta ___________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21240" y="148428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What do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0800" y="3573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Do you like 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040" y="4221000"/>
            <a:ext cx="924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Te gustan _________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4520" y="530064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Do you like 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7960" y="62064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Eres ______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960" y="2276640"/>
            <a:ext cx="93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Tienes _________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21240" y="148428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Are you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5120" y="3573360"/>
            <a:ext cx="48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Have you got 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960" y="4581360"/>
            <a:ext cx="93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Sabes _________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2880" y="5589720"/>
            <a:ext cx="61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Do you know how to 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06:38Z</dcterms:created>
  <dc:creator>Helen</dc:creator>
  <dc:description/>
  <dc:language>en-US</dc:language>
  <cp:lastModifiedBy>Helen</cp:lastModifiedBy>
  <dcterms:modified xsi:type="dcterms:W3CDTF">2010-05-19T18:42:50Z</dcterms:modified>
  <cp:revision>5</cp:revision>
  <dc:subject/>
  <dc:title>Slide 1</dc:title>
</cp:coreProperties>
</file>